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210-7CED-48F8-AC62-5AD915B7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D1D-6634-4AF3-B9AC-655DD6A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A86-9FD5-44FF-A99C-63D68E18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BFD-26C7-473E-91A2-864200FE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F5AC-C4E8-4504-B7F8-6BA7DCE6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407-F481-4DD9-A6F4-ABFDF0E2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4089-5168-4189-82E7-2D3370F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26E9-2EEE-47FE-A55E-315145D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319-200F-4BD3-ADAF-A51ABB9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879-3322-43EE-8196-7B173D0E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F700-9D73-43D6-B63D-B4706DA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9B4-9BD5-44DE-B8C8-1AAF28F6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058-6A27-493D-A59A-21E73DE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02ED-3833-4D87-950D-99DA2D3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202-9770-4F1D-A473-7B643A5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39AB-28DC-44FA-AD38-9935D25C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CAA-65FA-4622-AF32-44496166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3CE-F744-42F2-BF62-0E5F8FD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C53-779B-4C93-B98E-0734B4AF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A36-6023-447F-BBAD-EDEFA76F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D7A-D4BA-4F11-8E57-E56F09A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84E-8AAD-4E34-BA0E-029F8CF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376-40A3-463A-A5D5-AFB26F59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9AB-1EC1-49FE-9505-A9DCBCD7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8073-C6DA-44E7-B31C-A15302ECFF5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85C-A7A5-42A3-AA51-93EB9D8A2D2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JEGO WYMI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97000" y="144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44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89320" y="5295960"/>
          <a:ext cx="240804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5295960"/>
                    <a:ext cx="2408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54520" y="4429080"/>
          <a:ext cx="161784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4429080"/>
                    <a:ext cx="161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499000" y="1719360"/>
          <a:ext cx="1278000" cy="274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9000" y="1719360"/>
                    <a:ext cx="12780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640" y="131400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ługość, szerokość i wysokość prostopadłościanu to wymiary prostoką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ysokość prostopadłościanu oznaczamy literą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46280" y="230364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30364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6:40Z</dcterms:modified>
  <cp:revision>92</cp:revision>
  <dc:subject/>
  <dc:title>Slajd 1</dc:title>
</cp:coreProperties>
</file>